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5FAE6-E53B-42CC-9716-44576EF928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5895A-3FFE-42F4-9451-96CD5504F2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F97E2-0D2C-4B0B-8FD6-F021E9DC88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10A12-4F87-421E-95C7-846426C330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3EEC7-6BBF-4024-9FB9-BD495AFE2E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39F7C-3BF7-4441-8D53-995931F6B9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A591F-2DF9-412C-9D4F-01D76DC1D6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55402-E2E0-449A-8E51-A85F73FC9C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8472A-F0AF-4020-AD4A-634E4333DA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B91A2-DA4B-414F-B725-E9085AB59E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7CF4E-6140-4AD7-9C2D-4A3FAA5B04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CF2E6-9A37-43DA-BA21-4DC962ED63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08803-EE4A-4AEA-A185-C046E76208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88F3A-A5E1-4FE1-AADC-1BB6978EAF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59089-D6DE-434B-913E-C52A288295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35A35-32B0-4711-989C-0E2FC13318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EE034-8699-4581-A836-09AB3372BD0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4988-E2E1-42BB-B64F-871A63D7651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0449-CA15-4A72-B009-9A62AB83B38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0E6C-C60E-442E-81C9-F3D202EFC87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07F6-17FF-4891-8B24-7FD1161B6D2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77B4-F5BB-4579-A79C-78B4F1C966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C6961-AE60-4A8D-AC6F-EB192CE2C67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34DB-AD6F-4ABB-8FE9-8999FB83D43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FFC9-97E8-443C-99CD-268E4E1B12E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9766-2394-424A-BF3B-9A16A683602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B8EB-BB22-49F5-8864-BF97D09B050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46A2-82C8-483A-9E7C-C84B2DEEC66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A5BA-2CF4-4DF7-AB95-9F22FABA659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0A01-2CD1-4A18-AA06-1CA25179F2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87558-1959-412C-8381-636E6E894F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4AEC6-D952-4976-AEE3-2D4641B073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58FF8-F88D-4F83-8341-E2A21EA80B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1E16F-8F31-48F3-8438-E7BB6D6953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E97D8-C569-46E1-8212-2F1E95C471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84817-A7A5-4A02-B73D-B15DD0B293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360360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74A3-C263-456F-A388-F1E8B617B33B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>
            <a:hlinkClick r:id="rId3" action="ppaction://hlinksldjump"/>
          </p:cNvPr>
          <p:cNvSpPr/>
          <p:nvPr/>
        </p:nvSpPr>
        <p:spPr>
          <a:xfrm>
            <a:off x="8101080" y="5915160"/>
            <a:ext cx="609480" cy="322200"/>
          </a:xfrm>
          <a:custGeom>
            <a:avLst/>
            <a:gdLst>
              <a:gd name="textAreaLeft" fmla="*/ 20880 w 609480"/>
              <a:gd name="textAreaRight" fmla="*/ 588600 w 6094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40838" h="21600">
                <a:moveTo>
                  <a:pt x="0" y="0"/>
                </a:moveTo>
                <a:lnTo>
                  <a:pt x="40838" y="0"/>
                </a:lnTo>
                <a:lnTo>
                  <a:pt x="40838" y="21600"/>
                </a:lnTo>
                <a:lnTo>
                  <a:pt x="0" y="21600"/>
                </a:lnTo>
                <a:close/>
              </a:path>
              <a:path fill="lightenLess" w="40838" h="21600">
                <a:moveTo>
                  <a:pt x="0" y="0"/>
                </a:moveTo>
                <a:lnTo>
                  <a:pt x="40838" y="0"/>
                </a:lnTo>
                <a:lnTo>
                  <a:pt x="39438" y="1400"/>
                </a:lnTo>
                <a:lnTo>
                  <a:pt x="1400" y="1400"/>
                </a:lnTo>
                <a:close/>
              </a:path>
              <a:path fill="darken" w="40838" h="21600">
                <a:moveTo>
                  <a:pt x="40838" y="0"/>
                </a:moveTo>
                <a:lnTo>
                  <a:pt x="40838" y="21600"/>
                </a:lnTo>
                <a:lnTo>
                  <a:pt x="39438" y="20200"/>
                </a:lnTo>
                <a:lnTo>
                  <a:pt x="39438" y="1400"/>
                </a:lnTo>
                <a:close/>
              </a:path>
              <a:path fill="darkenLess" w="40838" h="21600">
                <a:moveTo>
                  <a:pt x="408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38" y="20200"/>
                </a:lnTo>
                <a:close/>
              </a:path>
              <a:path fill="lighten" w="408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38" h="21600">
                <a:moveTo>
                  <a:pt x="13412" y="7493"/>
                </a:moveTo>
                <a:lnTo>
                  <a:pt x="16920" y="7493"/>
                </a:lnTo>
                <a:lnTo>
                  <a:pt x="16920" y="12828"/>
                </a:lnTo>
                <a:cubicBezTo>
                  <a:pt x="16920" y="13751"/>
                  <a:pt x="17721" y="14482"/>
                  <a:pt x="18756" y="14482"/>
                </a:cubicBezTo>
                <a:lnTo>
                  <a:pt x="20419" y="14482"/>
                </a:lnTo>
                <a:cubicBezTo>
                  <a:pt x="21454" y="14482"/>
                  <a:pt x="22255" y="13751"/>
                  <a:pt x="22255" y="12828"/>
                </a:cubicBezTo>
                <a:lnTo>
                  <a:pt x="22255" y="7493"/>
                </a:lnTo>
                <a:lnTo>
                  <a:pt x="20419" y="7493"/>
                </a:lnTo>
                <a:lnTo>
                  <a:pt x="23926" y="3985"/>
                </a:lnTo>
                <a:lnTo>
                  <a:pt x="27599" y="7493"/>
                </a:lnTo>
                <a:lnTo>
                  <a:pt x="25763" y="7493"/>
                </a:lnTo>
                <a:lnTo>
                  <a:pt x="25763" y="12828"/>
                </a:lnTo>
                <a:cubicBezTo>
                  <a:pt x="25763" y="15596"/>
                  <a:pt x="23187" y="18155"/>
                  <a:pt x="20419" y="18155"/>
                </a:cubicBezTo>
                <a:lnTo>
                  <a:pt x="18756" y="18155"/>
                </a:lnTo>
                <a:cubicBezTo>
                  <a:pt x="15989" y="18155"/>
                  <a:pt x="13412" y="15596"/>
                  <a:pt x="13412" y="12828"/>
                </a:cubicBezTo>
                <a:close/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, 2006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y 2006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499"/>
              </a:spcBef>
              <a:buClr>
                <a:srgbClr val="3a0e66"/>
              </a:buClr>
              <a:buFont typeface="Minio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360360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6E32-5E71-40A6-BADE-8A187688DC60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, 2005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r 06, V.2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3"/>
          </p:nvPr>
        </p:nvSpPr>
        <p:spPr>
          <a:xfrm>
            <a:off x="360360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9E3E-911D-418A-ACD0-E54C346BA811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3" action="ppaction://hlinksldjump"/>
          </p:cNvPr>
          <p:cNvSpPr/>
          <p:nvPr/>
        </p:nvSpPr>
        <p:spPr>
          <a:xfrm>
            <a:off x="8101080" y="5915160"/>
            <a:ext cx="609480" cy="322200"/>
          </a:xfrm>
          <a:custGeom>
            <a:avLst/>
            <a:gdLst>
              <a:gd name="textAreaLeft" fmla="*/ 20880 w 609480"/>
              <a:gd name="textAreaRight" fmla="*/ 588600 w 6094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40838" h="21600">
                <a:moveTo>
                  <a:pt x="0" y="0"/>
                </a:moveTo>
                <a:lnTo>
                  <a:pt x="40838" y="0"/>
                </a:lnTo>
                <a:lnTo>
                  <a:pt x="40838" y="21600"/>
                </a:lnTo>
                <a:lnTo>
                  <a:pt x="0" y="21600"/>
                </a:lnTo>
                <a:close/>
              </a:path>
              <a:path fill="lightenLess" w="40838" h="21600">
                <a:moveTo>
                  <a:pt x="0" y="0"/>
                </a:moveTo>
                <a:lnTo>
                  <a:pt x="40838" y="0"/>
                </a:lnTo>
                <a:lnTo>
                  <a:pt x="39438" y="1400"/>
                </a:lnTo>
                <a:lnTo>
                  <a:pt x="1400" y="1400"/>
                </a:lnTo>
                <a:close/>
              </a:path>
              <a:path fill="darken" w="40838" h="21600">
                <a:moveTo>
                  <a:pt x="40838" y="0"/>
                </a:moveTo>
                <a:lnTo>
                  <a:pt x="40838" y="21600"/>
                </a:lnTo>
                <a:lnTo>
                  <a:pt x="39438" y="20200"/>
                </a:lnTo>
                <a:lnTo>
                  <a:pt x="39438" y="1400"/>
                </a:lnTo>
                <a:close/>
              </a:path>
              <a:path fill="darkenLess" w="40838" h="21600">
                <a:moveTo>
                  <a:pt x="408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38" y="20200"/>
                </a:lnTo>
                <a:close/>
              </a:path>
              <a:path fill="lighten" w="408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38" h="21600">
                <a:moveTo>
                  <a:pt x="13412" y="7493"/>
                </a:moveTo>
                <a:lnTo>
                  <a:pt x="16920" y="7493"/>
                </a:lnTo>
                <a:lnTo>
                  <a:pt x="16920" y="12828"/>
                </a:lnTo>
                <a:cubicBezTo>
                  <a:pt x="16920" y="13751"/>
                  <a:pt x="17721" y="14482"/>
                  <a:pt x="18756" y="14482"/>
                </a:cubicBezTo>
                <a:lnTo>
                  <a:pt x="20419" y="14482"/>
                </a:lnTo>
                <a:cubicBezTo>
                  <a:pt x="21454" y="14482"/>
                  <a:pt x="22255" y="13751"/>
                  <a:pt x="22255" y="12828"/>
                </a:cubicBezTo>
                <a:lnTo>
                  <a:pt x="22255" y="7493"/>
                </a:lnTo>
                <a:lnTo>
                  <a:pt x="20419" y="7493"/>
                </a:lnTo>
                <a:lnTo>
                  <a:pt x="23926" y="3985"/>
                </a:lnTo>
                <a:lnTo>
                  <a:pt x="27599" y="7493"/>
                </a:lnTo>
                <a:lnTo>
                  <a:pt x="25763" y="7493"/>
                </a:lnTo>
                <a:lnTo>
                  <a:pt x="25763" y="12828"/>
                </a:lnTo>
                <a:cubicBezTo>
                  <a:pt x="25763" y="15596"/>
                  <a:pt x="23187" y="18155"/>
                  <a:pt x="20419" y="18155"/>
                </a:cubicBezTo>
                <a:lnTo>
                  <a:pt x="18756" y="18155"/>
                </a:lnTo>
                <a:cubicBezTo>
                  <a:pt x="15989" y="18155"/>
                  <a:pt x="13412" y="15596"/>
                  <a:pt x="13412" y="12828"/>
                </a:cubicBezTo>
                <a:close/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, 2005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r 06, V.2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1600" y="1519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Value Added Enhancements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Organizational Overview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4" name=""/>
          <p:cNvSpPr/>
          <p:nvPr/>
        </p:nvSpPr>
        <p:spPr>
          <a:xfrm>
            <a:off x="-2622600" y="766800"/>
            <a:ext cx="0" cy="368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32000" y="692280"/>
            <a:ext cx="2519640" cy="792000"/>
          </a:xfrm>
          <a:prstGeom prst="rect">
            <a:avLst/>
          </a:prstGeom>
          <a:solidFill>
            <a:srgbClr val="d1c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V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Value Added Enhan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Juergen Riesmeyer         Menzie Liang (de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19280" y="3071880"/>
            <a:ext cx="1258920" cy="503280"/>
          </a:xfrm>
          <a:prstGeom prst="rect">
            <a:avLst/>
          </a:prstGeom>
          <a:solidFill>
            <a:srgbClr val="e9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 VAE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lectroni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artina Schob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84720" y="3068640"/>
            <a:ext cx="1258560" cy="503280"/>
          </a:xfrm>
          <a:prstGeom prst="rect">
            <a:avLst/>
          </a:prstGeom>
          <a:solidFill>
            <a:srgbClr val="e9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 VAE 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 </a:t>
            </a: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ch. Eng.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oc. &amp; Layout</a:t>
            </a:r>
            <a:r>
              <a:rPr b="0" lang="en-US" sz="8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einhold Hei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24360" y="3068640"/>
            <a:ext cx="1258920" cy="503280"/>
          </a:xfrm>
          <a:prstGeom prst="rect">
            <a:avLst/>
          </a:prstGeom>
          <a:solidFill>
            <a:srgbClr val="e9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 VAE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MC/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Ulrich Bet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220500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PCM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latform Compatibility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Jens Knapmey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79640" y="155880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PCM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latform Compatibility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Thorsten Lan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37080" y="1555920"/>
            <a:ext cx="1441440" cy="50292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P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cess, Planning,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Ulrich Bet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37080" y="220356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Technology &amp; Strate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N. 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27640" y="1484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429080" y="18432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429080" y="24908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565440" y="18460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65440" y="22068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420720" y="2494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420720" y="18464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03280" y="177336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58920" y="6019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58920" y="54421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58920" y="48657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58920" y="42894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58920" y="37130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24000" y="1770120"/>
            <a:ext cx="1792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24000" y="2347920"/>
            <a:ext cx="1792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87280" y="29224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484280"/>
            <a:ext cx="11509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Nico D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9280" y="2060640"/>
            <a:ext cx="1152720" cy="46836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Minion"/>
              </a:rPr>
              <a:t>PM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ilek Al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2633760"/>
            <a:ext cx="11509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Minion"/>
              </a:rPr>
              <a:t>PM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Fredrik Herma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738920" y="3070080"/>
            <a:ext cx="1224000" cy="50328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Q VA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nzie Lia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3427560"/>
            <a:ext cx="1152720" cy="50292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Hans-Klaus Nussbae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400536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Andreas Grielhues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9280" y="515448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Ludwig Kund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573408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Frank Templ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457992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Steffen Pietzs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563640" y="2133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9420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7380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29242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31528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404720" y="2924280"/>
            <a:ext cx="51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363640" y="11253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12000" y="83664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Team Assist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Stefanie Ro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DC42A-D8B3-4AB3-B0F6-E05B627AD21C}" type="slidenum">
              <a:t>1</a:t>
            </a:fld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 flipH="1">
            <a:off x="5363640" y="11253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01600" y="1519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Value Added Enhancements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Organization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9" name=""/>
          <p:cNvSpPr/>
          <p:nvPr/>
        </p:nvSpPr>
        <p:spPr>
          <a:xfrm>
            <a:off x="-2622600" y="766800"/>
            <a:ext cx="0" cy="368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32000" y="692280"/>
            <a:ext cx="2519640" cy="792000"/>
          </a:xfrm>
          <a:prstGeom prst="rect">
            <a:avLst/>
          </a:prstGeom>
          <a:solidFill>
            <a:srgbClr val="d1c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V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Value Added Enhan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Juergen Riesmeyer         Menzie Liang (de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19280" y="3071880"/>
            <a:ext cx="1258920" cy="503280"/>
          </a:xfrm>
          <a:prstGeom prst="rect">
            <a:avLst/>
          </a:prstGeom>
          <a:solidFill>
            <a:srgbClr val="e9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 VAE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lectroni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artina Schob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84720" y="3068640"/>
            <a:ext cx="1258560" cy="503280"/>
          </a:xfrm>
          <a:prstGeom prst="rect">
            <a:avLst/>
          </a:prstGeom>
          <a:solidFill>
            <a:srgbClr val="e9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 VAE 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 </a:t>
            </a: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ch. Eng.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oc. &amp; Layout</a:t>
            </a:r>
            <a:r>
              <a:rPr b="0" lang="en-US" sz="8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einhold Hei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24360" y="3068640"/>
            <a:ext cx="1258920" cy="503280"/>
          </a:xfrm>
          <a:prstGeom prst="rect">
            <a:avLst/>
          </a:prstGeom>
          <a:solidFill>
            <a:srgbClr val="e9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 VAE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MC/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Ulrich Bet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220500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PCM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latform Compatibility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Jens Knapmey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79640" y="155880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PCM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latform Compatibility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Thorsten Lan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37080" y="1555920"/>
            <a:ext cx="1441440" cy="50292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P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cess, Planning,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Ulrich Bet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7080" y="220356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Technology &amp; Strate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N. 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27640" y="1484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429080" y="18432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429080" y="24908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565440" y="18460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22068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3420720" y="2494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420720" y="18464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03280" y="177336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58920" y="6019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58920" y="54421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58920" y="48657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58920" y="42894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58920" y="37130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24000" y="1770120"/>
            <a:ext cx="1792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24000" y="2347920"/>
            <a:ext cx="1792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87280" y="29224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9280" y="1484280"/>
            <a:ext cx="11509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Nico D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9280" y="2060640"/>
            <a:ext cx="1152720" cy="46836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Minion"/>
              </a:rPr>
              <a:t>PM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ilek Al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280" y="2633760"/>
            <a:ext cx="11509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Minion"/>
              </a:rPr>
              <a:t>PM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Fredrik Herma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738920" y="3070080"/>
            <a:ext cx="1224000" cy="50328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Q VA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nzie Lia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19280" y="367992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H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Thorsten Schoel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19280" y="411156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H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  <a:ea typeface="新細明體"/>
              </a:rPr>
              <a:t>Zouheir Hamza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19280" y="454500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H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  <a:ea typeface="新細明體"/>
              </a:rPr>
              <a:t>Robin Foster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19280" y="497664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HW/Acous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arkus Bent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19280" y="540864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S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awel Grebenk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67640" y="3679920"/>
            <a:ext cx="1152360" cy="396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cess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  <a:ea typeface="新細明體"/>
              </a:rPr>
              <a:t>Christian Herna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67640" y="4113360"/>
            <a:ext cx="1152360" cy="396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Ben L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67640" y="4545000"/>
            <a:ext cx="1152360" cy="396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  <a:ea typeface="新細明體"/>
              </a:rPr>
              <a:t>Jay L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14560" y="367992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Gerhard Bleum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14560" y="411156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einhard Muel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14560" y="454500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Bernd Splei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914560" y="540864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Klaus Koell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14560" y="497664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upert Stoegmuel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067280" y="367812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o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Joerg Lubi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67280" y="411012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oc/Lay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Bernhard Schil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67280" y="454356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acka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olf Neuha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67280" y="497520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nv.-Testing Suppor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Laszlo Koeh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92720" y="368136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Nico Kemp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92720" y="411336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Klaus Viktor Flits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92720" y="454644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iana Rie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92720" y="541008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ichael Stad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92720" y="497844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Klaus Schm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45080" y="3679920"/>
            <a:ext cx="100836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M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atrik Jak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445080" y="4111560"/>
            <a:ext cx="100836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M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Norbert Puet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92720" y="584028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Bernhard Zwil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9280" y="3427560"/>
            <a:ext cx="1152720" cy="50292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Hans-Klaus Nussbae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9280" y="400536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Andreas Grielhues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9280" y="515448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Ludwig Kund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9280" y="573408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Frank Templ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9280" y="457992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Steffen Pietzs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00360" y="357336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625840" y="558792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626920" y="5157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62692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626920" y="4292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62692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47640" y="6165720"/>
            <a:ext cx="144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* as of  01 June 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94200" y="357336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922200" y="5589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922200" y="5157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994200" y="515772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92220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399528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922200" y="4292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3994200" y="4292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392220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399528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357336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300360" y="6021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6300360" y="5589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300360" y="5157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30036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300360" y="4292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6372360" y="4292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372360" y="3860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630036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891640" y="357336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8819640" y="4761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8819640" y="4329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8819640" y="3897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563640" y="2133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26836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9420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7380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443640" y="29242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31528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667640" y="5013360"/>
            <a:ext cx="1152360" cy="396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C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  <a:ea typeface="新細明體"/>
              </a:rPr>
              <a:t>N.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8818560" y="52293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1404720" y="2924280"/>
            <a:ext cx="51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012000" y="83664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Team Assist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Stefanie Ro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21A0E-2575-4932-8E41-7A0D60251093}" type="slidenum">
              <a:t>2</a:t>
            </a:fld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43920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VAE 1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Electronic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849780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Responsibility for HW-, SW- and feature related  part of the TTD </a:t>
            </a:r>
            <a:r>
              <a:rPr b="0" lang="en-US" sz="1200" spc="-1" strike="noStrike">
                <a:solidFill>
                  <a:srgbClr val="000000"/>
                </a:solidFill>
                <a:latin typeface="Minion"/>
              </a:rPr>
              <a:t>(technical terms of delivery)</a:t>
            </a: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 for ODM product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Controlling and checking electronic status of ODM developmen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Supporting the alpha-team on all HW and SW-related issu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Responsible for the AC product inhouse developmen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59B5C-697C-49F9-87DE-4BC085FB9F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439200"/>
            <a:ext cx="8439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VAE 2 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Mechanical Engineering , Documentation, Layou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528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Responsible for the mechanical part of the TTD for ODM product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echanical concept engineering for new AC product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upporting the Project Management ED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Controlling and checking the mechanical/tool status of ODM developmen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Responsibility for all product related SAP documentatio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Technical support and development for retail packag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Responsibility for  AC  CAE-development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739D3-C30C-4550-9C7D-D6BCAA69FB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43920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VAE 3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Integration &amp; Test, EMC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2071440"/>
            <a:ext cx="8229600" cy="31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Responsibility for the HW/SW-Integration Test and the System Test Accessory Device/Mobile Phon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Running the EMC-Test lab; 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EMC debugging for Accessory Devices and for the system AD/Mobil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upporting and Consulting the ODM-development partne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B3C9F-FABD-4452-B1A1-89E8DF827B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2217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nion"/>
              </a:rPr>
              <a:t>Project Management AC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29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Project management for AC-products  (ODM-products and inhouse developments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ember of the Realization Team AD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Head of the PD-Team AD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6" name=""/>
          <p:cNvSpPr/>
          <p:nvPr/>
        </p:nvSpPr>
        <p:spPr>
          <a:xfrm>
            <a:off x="298440" y="331956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nion"/>
                <a:ea typeface="文鼎中黑"/>
              </a:rPr>
              <a:t>Project Management 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95280" y="4149720"/>
            <a:ext cx="856944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Project management for Edition -Produc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Initiation and supporting mechanical predevelop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ember of Realization Teams  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0294E-B998-44D7-B1CB-B4C27D44C4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98080" y="4042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nion"/>
              </a:rPr>
              <a:t>VAE PP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Minion"/>
              </a:rPr>
              <a:t>Process, Planning, Tool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5920" y="13046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</a:rPr>
              <a:t>Responsible for process definition and documentatio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</a:rPr>
              <a:t>Interface to Business Administration in terms of budget planning and controll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</a:rPr>
              <a:t>Internal support for project planning and monitoring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</a:rPr>
              <a:t>Responsible for planning tools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0" name=""/>
          <p:cNvSpPr/>
          <p:nvPr/>
        </p:nvSpPr>
        <p:spPr>
          <a:xfrm>
            <a:off x="312840" y="375300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nion"/>
                <a:ea typeface="文鼎中黑"/>
              </a:rPr>
              <a:t>VAE T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Minion"/>
                <a:ea typeface="文鼎中黑"/>
              </a:rPr>
              <a:t>Technology and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5920" y="4689360"/>
            <a:ext cx="8229600" cy="16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R&amp;D VAE member in the Alpha-Te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Market scanning for technologies available for product 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Initiating technology platforms for AD product families</a:t>
            </a:r>
            <a:r>
              <a:rPr b="1" lang="en-US" sz="2000" spc="-1" strike="noStrike">
                <a:solidFill>
                  <a:srgbClr val="800080"/>
                </a:solidFill>
                <a:latin typeface="Minion"/>
                <a:ea typeface="文鼎中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4A938-039D-4A12-AB81-394FD1B32A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98080" y="4042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nion"/>
              </a:rPr>
              <a:t>VAE PCM;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Minion"/>
              </a:rPr>
              <a:t>Platform Compatibility Managemen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ingle Entry Point for all VAE-related technical issues for the mobile phone tea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ember in all PD-teams of the mobile pho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Interface between the VAE-product teams and the phones PD-teams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84B27-78AF-4A53-8FB5-2B5F615652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98440" y="40464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nion"/>
                <a:ea typeface="文鼎中黑"/>
              </a:rPr>
              <a:t>RDQ VA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4000" y="1557360"/>
            <a:ext cx="822960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Project Management for local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Project Management Support for Headquarter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Electrical Engineering, HW/S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Mechanical Engineer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rocess Management Support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latform Compatibilit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0BB5C-C54E-4BEB-A300-729D9E238D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6T12:58:53Z</dcterms:created>
  <dc:creator>Selma Samrowski</dc:creator>
  <dc:description/>
  <dc:language>en-US</dc:language>
  <cp:lastModifiedBy>Juergen Riesmeyer</cp:lastModifiedBy>
  <dcterms:modified xsi:type="dcterms:W3CDTF">2006-05-22T16:48:38Z</dcterms:modified>
  <cp:revision>332</cp:revision>
  <dc:subject/>
  <dc:title>PHE R&amp;D Organization Charts</dc:title>
</cp:coreProperties>
</file>